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919913" cy="100472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AB3C-7680-42DF-974B-B089D36FC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ACE7-11E9-4334-BC3F-D98A5EDF4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6A91-573C-4C01-87BF-7CACE6E84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CCCC-BF1E-48D7-9E34-C19D629DC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B6FB-8EFB-47EA-9F1C-900B4227B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9901-B167-4616-A747-F2E14162D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25D4-0235-4B61-AE38-0D690DD45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3DFA-6C42-469F-8B6E-4BCEA3A86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EA40-813A-4E1D-8F51-82E68E164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3C49-159B-4162-9177-B4EF15F5C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3115-22DA-4118-A46C-D0392D675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8164-848D-44E2-920F-0CB3DE166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AB6EF-A5CD-4F79-AADA-4C4D50D68A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12"/>
          <p:cNvSpPr/>
          <p:nvPr/>
        </p:nvSpPr>
        <p:spPr>
          <a:xfrm>
            <a:off x="368640" y="5300640"/>
            <a:ext cx="8563680" cy="13726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Conception libre avec données suivantes à préciser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Nom du Mandataire du group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Nom de l’architec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Un texte précisant le type d’opération, les surfaces, le coût et la date de livraison  ou stade d’avanc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Le numéro dans la fiche de synthèse références – Compétence Archite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21"/>
          <p:cNvSpPr/>
          <p:nvPr/>
        </p:nvSpPr>
        <p:spPr>
          <a:xfrm>
            <a:off x="252720" y="824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1"/>
          <p:cNvSpPr/>
          <p:nvPr/>
        </p:nvSpPr>
        <p:spPr>
          <a:xfrm>
            <a:off x="252720" y="824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2"/>
          <p:cNvSpPr/>
          <p:nvPr/>
        </p:nvSpPr>
        <p:spPr>
          <a:xfrm>
            <a:off x="368640" y="5300640"/>
            <a:ext cx="8563680" cy="13726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Conception libre avec données suivantes à préciser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Nom du Mandataire du group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Nom de l’architec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Un texte précisant le type d’opération, les surfaces, le coût et la date de livraison  ou stade d’avanc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Le numéro dans la fiche de synthèse références – Compétence Archite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1"/>
          <p:cNvSpPr/>
          <p:nvPr/>
        </p:nvSpPr>
        <p:spPr>
          <a:xfrm>
            <a:off x="252720" y="824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2"/>
          <p:cNvSpPr/>
          <p:nvPr/>
        </p:nvSpPr>
        <p:spPr>
          <a:xfrm>
            <a:off x="368640" y="5300640"/>
            <a:ext cx="8563680" cy="13726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Conception libre avec données suivantes à préciser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Nom du Mandataire du group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Nom de l’architec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Un texte précisant le type d’opération, les surfaces, le coût et la date de livraison  ou stade d’avanc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Le numéro dans la fiche de synthèse références – Compétence Archite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1"/>
          <p:cNvSpPr/>
          <p:nvPr/>
        </p:nvSpPr>
        <p:spPr>
          <a:xfrm>
            <a:off x="252720" y="824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2"/>
          <p:cNvSpPr/>
          <p:nvPr/>
        </p:nvSpPr>
        <p:spPr>
          <a:xfrm>
            <a:off x="368640" y="5300640"/>
            <a:ext cx="8563680" cy="13726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Conception libre avec données suivantes à préciser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Nom du Mandataire du group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Nom de l’architec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Un texte précisant le type d’opération, les surfaces, le coût et la date de livraison  ou stade d’avanc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Le numéro dans la fiche de synthèse références – Compétence Archite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1T07:21:32Z</dcterms:created>
  <dc:creator>vv</dc:creator>
  <dc:description/>
  <dc:language>en-US</dc:language>
  <cp:lastModifiedBy>PIGNON SOPHIE</cp:lastModifiedBy>
  <dcterms:modified xsi:type="dcterms:W3CDTF">2025-10-15T09:04:11Z</dcterms:modified>
  <cp:revision>63</cp:revision>
  <dc:subject/>
  <dc:title>Diapositive 1</dc:title>
</cp:coreProperties>
</file>